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2C6-5984-4B0A-B1B5-B28C831A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E49-EE09-4082-AA22-D8975699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54F-5BD1-4F9D-A6B3-25513751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F75-CB55-416D-8744-D52AB5A1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E7E6-9177-4CBD-B8E7-71B0610B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E758-E200-46AE-9F09-876BDDB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1472-A1F7-49A5-9C7C-6DDA92B6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3516-EACD-418E-BB24-988DAA9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E8A5-FBD0-4963-9E7A-17B97C5F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5116-6D07-4A3C-B435-2BF6A405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B872-72F9-4558-B3D5-6901D54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C89-0163-44C2-8060-DC4B359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8D02-EF7E-44A6-9AEA-1576186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8266-C96F-429E-9F37-3B577F67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C525-E880-4ACC-BD8A-5BFA38E0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9BD3-8037-4FB4-A5D9-6618535B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AB26-FA41-4F3A-A65E-FD96F2E9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2BA-916E-4326-95C3-9386A1DD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EA3-7712-4BC7-89DA-DD4B91B8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871-A832-41B2-A0C9-AC8E2A2F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C71-6F1F-42A6-B12A-20238E12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13E-7A63-44C1-BE82-7E1D72FF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2DC-0FE8-4433-B8F1-E27DE03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2C8-B0E3-4D6C-9AC7-E4B900D4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A77F-72FF-4D16-9B96-A89FB4B280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4294-261D-4C15-9733-E13DF03F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3128-5A83-42A7-86BD-FCA34F3773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9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6F06-1D73-4D82-9CA7-22DAE0F06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83" name="Rectangle 7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2"/>
          <p:cNvSpPr/>
          <p:nvPr/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300" spc="-1" strike="noStrike">
                <a:solidFill>
                  <a:srgbClr val="333399"/>
                </a:solidFill>
                <a:latin typeface="Garamond"/>
              </a:rPr>
              <a:t>Напредък в изпълнението на ОП РЧР за 2012 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Заседание на Съвета за координация при управление на средствата от 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(СКУСЕ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Garamond"/>
              </a:rPr>
              <a:t>София, 16 май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11"/>
          <p:cNvGraphicFramePr/>
          <p:nvPr/>
        </p:nvGraphicFramePr>
        <p:xfrm>
          <a:off x="304920" y="1600200"/>
          <a:ext cx="830556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8305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7593-29AF-4D46-828F-6071DA41468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7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1"/>
          <p:cNvGraphicFramePr/>
          <p:nvPr/>
        </p:nvGraphicFramePr>
        <p:xfrm>
          <a:off x="380880" y="1371600"/>
          <a:ext cx="80010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1600"/>
                    <a:ext cx="80010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5C8A-540A-44DD-8A8F-48BEC009B1C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8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13"/>
          <p:cNvGraphicFramePr/>
          <p:nvPr/>
        </p:nvGraphicFramePr>
        <p:xfrm>
          <a:off x="0" y="1676520"/>
          <a:ext cx="8881920" cy="49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88192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954-336F-496B-ADF0-338C20BCAB9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9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13"/>
          <p:cNvGraphicFramePr/>
          <p:nvPr/>
        </p:nvGraphicFramePr>
        <p:xfrm>
          <a:off x="304920" y="1143000"/>
          <a:ext cx="8515080" cy="524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5150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6965-1463-4B60-BF82-3B8F2A91F81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0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11"/>
          <p:cNvGraphicFramePr/>
          <p:nvPr/>
        </p:nvGraphicFramePr>
        <p:xfrm>
          <a:off x="152280" y="1523880"/>
          <a:ext cx="8610840" cy="503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084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59BB-840D-4A53-A54E-40D3927EA91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11"/>
          <p:cNvGraphicFramePr/>
          <p:nvPr/>
        </p:nvGraphicFramePr>
        <p:xfrm>
          <a:off x="228600" y="1828800"/>
          <a:ext cx="85345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8800"/>
                    <a:ext cx="853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C4D-22A6-44A8-8A59-794B80FF98C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11"/>
          <p:cNvGraphicFramePr/>
          <p:nvPr/>
        </p:nvGraphicFramePr>
        <p:xfrm>
          <a:off x="152280" y="1523880"/>
          <a:ext cx="8460000" cy="49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4600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91C-A2A5-46EC-B6DF-6AECD3B4C91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6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11"/>
          <p:cNvGraphicFramePr/>
          <p:nvPr/>
        </p:nvGraphicFramePr>
        <p:xfrm>
          <a:off x="0" y="1447920"/>
          <a:ext cx="8686800" cy="519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86868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DD5D-166E-47C5-AEDC-EACA7B3E957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7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11"/>
          <p:cNvGraphicFramePr/>
          <p:nvPr/>
        </p:nvGraphicFramePr>
        <p:xfrm>
          <a:off x="0" y="1581120"/>
          <a:ext cx="8991720" cy="49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1120"/>
                    <a:ext cx="89917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B885-1FDE-43AF-BE17-0EC006AB934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РИОРИТЕТНА ОС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7</a:t>
            </a:r>
            <a:br>
              <a:rPr sz="2800"/>
            </a:b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1"/>
          <p:cNvGraphicFramePr/>
          <p:nvPr/>
        </p:nvGraphicFramePr>
        <p:xfrm>
          <a:off x="0" y="1789200"/>
          <a:ext cx="8686800" cy="506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920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C168-73AE-44A6-9F4A-3BDCF71D9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8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CD5C-30D6-4714-9D07-2023D2CF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ПРОГРАМИРАНЕ НА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92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" name=""/>
          <p:cNvGraphicFramePr/>
          <p:nvPr/>
        </p:nvGraphicFramePr>
        <p:xfrm>
          <a:off x="457200" y="1951200"/>
          <a:ext cx="8229600" cy="4144320"/>
        </p:xfrm>
        <a:graphic>
          <a:graphicData uri="http://schemas.openxmlformats.org/drawingml/2006/table">
            <a:tbl>
              <a:tblPr/>
              <a:tblGrid>
                <a:gridCol w="5943600"/>
                <a:gridCol w="2286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юджет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74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грамира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ра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цент от бюджета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4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артирали процедури за предоставяне на безвъзмездна финансова помощ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923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6488-2010-431F-809C-A19BB1A77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ДЕЙНОСТИ ПО КОМУНИКАЦИЯ И ПУБЛИЧНОСТ ПРЕЗ 201</a:t>
            </a: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2</a:t>
            </a: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 г.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19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екламни радио и телевизионни клип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убрики и репортаж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документални филм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Близо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60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0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публикации в интернет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4 мащабни информационни събития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Информационни дни по 21 схеми и обучения по още 5 схем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Годишно информационно събитие за популяризиране на ОП РЧР – май 2012 г., проведено във всички областни градове. Обща продължителност два месец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71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B9A-E1BF-49F2-8859-0DB1E85C7D8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01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" name=""/>
          <p:cNvGraphicFramePr/>
          <p:nvPr/>
        </p:nvGraphicFramePr>
        <p:xfrm>
          <a:off x="457200" y="1951200"/>
          <a:ext cx="8001000" cy="3701880"/>
        </p:xfrm>
        <a:graphic>
          <a:graphicData uri="http://schemas.openxmlformats.org/drawingml/2006/table">
            <a:tbl>
              <a:tblPr/>
              <a:tblGrid>
                <a:gridCol w="4013280"/>
                <a:gridCol w="2373120"/>
                <a:gridCol w="16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говор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027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зплат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52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р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5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ерт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11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1"/>
          <p:cNvGraphicFramePr/>
          <p:nvPr/>
        </p:nvGraphicFramePr>
        <p:xfrm>
          <a:off x="228600" y="1981080"/>
          <a:ext cx="868680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686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4EE-119A-4AA3-98F4-69F494201BE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4"/>
          <p:cNvGraphicFramePr/>
          <p:nvPr/>
        </p:nvGraphicFramePr>
        <p:xfrm>
          <a:off x="228600" y="1600200"/>
          <a:ext cx="87631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0020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4735-E1D1-4B13-A913-CBFE64AB58E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5"/>
          <p:cNvGraphicFramePr/>
          <p:nvPr/>
        </p:nvGraphicFramePr>
        <p:xfrm>
          <a:off x="152280" y="1523880"/>
          <a:ext cx="8612280" cy="514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2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4F6F-484D-4FFF-B6B0-C4D1F4D0F50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6"/>
          <p:cNvGraphicFramePr/>
          <p:nvPr/>
        </p:nvGraphicFramePr>
        <p:xfrm>
          <a:off x="41400" y="1214280"/>
          <a:ext cx="9024840" cy="45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14280"/>
                    <a:ext cx="90248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2CF8-CE16-4EC6-BF6C-E362DD03EDF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1"/>
          <p:cNvGraphicFramePr/>
          <p:nvPr/>
        </p:nvGraphicFramePr>
        <p:xfrm>
          <a:off x="228600" y="1523880"/>
          <a:ext cx="868680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C2C6-9884-4837-A00F-0941CAA1AF3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1"/>
          <p:cNvGraphicFramePr/>
          <p:nvPr/>
        </p:nvGraphicFramePr>
        <p:xfrm>
          <a:off x="0" y="1371600"/>
          <a:ext cx="89154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8915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A1F7-E1AB-4866-A829-3715032E41D7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anaki Yanakiev</dc:creator>
  <dc:description/>
  <dc:language>en-US</dc:language>
  <cp:lastModifiedBy>v.olshevski</cp:lastModifiedBy>
  <dcterms:modified xsi:type="dcterms:W3CDTF">2013-05-10T14:33:04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